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3.jpeg" ContentType="image/jpeg"/>
  <Override PartName="/ppt/media/image12.gif" ContentType="image/gif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8E1A-9DB2-445B-8548-09D44FF6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2E5-FF0C-42B7-A0E8-D4A51A0C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F99-75CD-4E36-8B56-A0607451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9A2-C378-4A92-91C1-70C9F2E9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8512-0ADE-4C59-A209-A2DDBC14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4103-44AE-495D-8771-D309E7C6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ACC0-97DE-4361-AA0F-4BDEFE9C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C937-FCD8-4540-A48E-D960BE06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3239-5FF0-46DF-B62E-A2277EF0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407E-3867-493E-BD54-E91AA6DB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6236-68CA-4467-9205-2DAFFC7B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166-3F3E-47F4-A1AA-565BA616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4947-34D8-4F4D-954F-B7668B03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8B43-90BF-4160-AD52-A2FB2544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F010-9764-4FD3-A2BA-98E44450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78C7-51C5-4A39-B35E-406B1E6A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EBBA-39EB-4702-BEFA-E6138EFF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F62-09F9-49A0-8109-42AF7BED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BAF-4A9A-43A6-9046-8B46EA0F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4A3-F58F-4B0B-BD0E-31D7459D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04F-B54F-4B93-A583-20B73A18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130-F4A0-40CC-BE98-73BB7C25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1C9-BD64-4446-AB62-92663B8D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C1C-78F0-45A0-81F7-2908BB01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D3D2-3BB1-41D5-969C-0E387F38EE4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012A-2718-490D-A094-295052956435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ctr"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3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1" lang="hu-HU" sz="5300" spc="-1" strike="noStrike" baseline="-25000">
                <a:solidFill>
                  <a:srgbClr val="660066"/>
                </a:solidFill>
                <a:latin typeface="Tahoma"/>
              </a:rPr>
              <a:t>2 </a:t>
            </a:r>
            <a:r>
              <a:rPr b="1" lang="hu-HU" sz="5300" spc="-1" strike="noStrike">
                <a:solidFill>
                  <a:srgbClr val="660066"/>
                </a:solidFill>
                <a:latin typeface="Tahoma"/>
              </a:rPr>
              <a:t>érzékelők</a:t>
            </a:r>
            <a:br>
              <a:rPr sz="5300"/>
            </a:br>
            <a:endParaRPr b="0" lang="en-US" sz="53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724360" y="508464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458c"/>
                </a:solidFill>
                <a:latin typeface="Tahoma"/>
              </a:rPr>
              <a:t>Lőkkös Norbert (FFRQJ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024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660066"/>
                </a:solidFill>
                <a:latin typeface="Tahoma"/>
              </a:rPr>
              <a:t>Törésmutató vizsgálata alapján II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Haber-Löwe refraktomét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5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2. oszlop(Törésmuatató) megmuatatja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azt,ha az összehasonlító gáz levegő,a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kérdéses gáz mely tf%-a mérhető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levegőben még pontosan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8" name="Picture 4" descr="harber"/>
          <p:cNvPicPr/>
          <p:nvPr/>
        </p:nvPicPr>
        <p:blipFill>
          <a:blip r:embed="rId1"/>
          <a:stretch/>
        </p:blipFill>
        <p:spPr>
          <a:xfrm>
            <a:off x="4140360" y="2060640"/>
            <a:ext cx="4662360" cy="3370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toresmutato"/>
          <p:cNvPicPr/>
          <p:nvPr/>
        </p:nvPicPr>
        <p:blipFill>
          <a:blip r:embed="rId2"/>
          <a:stretch/>
        </p:blipFill>
        <p:spPr>
          <a:xfrm>
            <a:off x="250920" y="2349360"/>
            <a:ext cx="3308400" cy="3857760"/>
          </a:xfrm>
          <a:prstGeom prst="rect">
            <a:avLst/>
          </a:prstGeom>
          <a:ln w="0">
            <a:noFill/>
          </a:ln>
        </p:spPr>
      </p:pic>
      <p:sp>
        <p:nvSpPr>
          <p:cNvPr id="240" name="Line 6"/>
          <p:cNvSpPr/>
          <p:nvPr/>
        </p:nvSpPr>
        <p:spPr>
          <a:xfrm>
            <a:off x="5940360" y="1773360"/>
            <a:ext cx="936720" cy="0"/>
          </a:xfrm>
          <a:prstGeom prst="line">
            <a:avLst/>
          </a:prstGeom>
          <a:ln w="316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6877080" y="1773360"/>
            <a:ext cx="0" cy="21564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Line 8"/>
          <p:cNvSpPr/>
          <p:nvPr/>
        </p:nvSpPr>
        <p:spPr>
          <a:xfrm flipH="1">
            <a:off x="3635280" y="6021360"/>
            <a:ext cx="72072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Infravörös abszorpciós elv I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9819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a CO</a:t>
            </a:r>
            <a:r>
              <a:rPr b="0" lang="hu-HU" sz="2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 molekulák IR-tartományba eső rezgési és forgási spektrumai elnyelik az IR sugarakat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Lambert-Beer törvény </a:t>
            </a:r>
            <a:r>
              <a:rPr b="0" lang="hu-HU" sz="2200" spc="-1" strike="noStrike">
                <a:solidFill>
                  <a:srgbClr val="40458c"/>
                </a:solidFill>
                <a:latin typeface="Tahoma"/>
                <a:ea typeface="Arial"/>
              </a:rPr>
              <a:t>→</a:t>
            </a: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 mennyiségi elemzés (az elnyelt sugárzás mennyisége az abszorbeáló anyag mennyiségétől, koncentrációjától függ.A fényelnyelést a Lambert-Beer törvény fejezi ki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3"/>
          <a:stretch/>
        </p:blipFill>
        <p:spPr>
          <a:xfrm>
            <a:off x="1547640" y="3606840"/>
            <a:ext cx="58946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Infravörös abszorpciós elv II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9819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NDIR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szenzo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Elvi felépíté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8" name="Picture 5" descr="NDIR CO2 Sensor"/>
          <p:cNvPicPr/>
          <p:nvPr/>
        </p:nvPicPr>
        <p:blipFill>
          <a:blip r:embed="rId1"/>
          <a:stretch/>
        </p:blipFill>
        <p:spPr>
          <a:xfrm>
            <a:off x="4211640" y="1700280"/>
            <a:ext cx="3809880" cy="2266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6877080" y="4365720"/>
            <a:ext cx="1517760" cy="20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beerslaw"/>
          <p:cNvPicPr/>
          <p:nvPr/>
        </p:nvPicPr>
        <p:blipFill>
          <a:blip r:embed="rId3"/>
          <a:stretch/>
        </p:blipFill>
        <p:spPr>
          <a:xfrm>
            <a:off x="1258920" y="3249720"/>
            <a:ext cx="368784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Infravörös abszorpciós elv III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9819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458c"/>
                </a:solidFill>
                <a:latin typeface="Tahoma"/>
              </a:rPr>
              <a:t>AO 2000 Folyamatos emissziómérő rendsze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Szilárd, folyékony és gáznemű tüzelőanyagok elégetésekor felszabaduló füstgázok koncentrációjának pontos és folyamatos analizálására és a mérési eredmények feldolgozására, gyűjtésére szolgáló beépített, vagy több egységre szétbontható, hordozható műszerrendszer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Több modulja van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MAGNOS 106 paramágneses oxigén-mérő modu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0…25 tf% tartomány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1" lang="hu-HU" sz="1800" spc="-1" strike="noStrike">
                <a:solidFill>
                  <a:srgbClr val="40458c"/>
                </a:solidFill>
                <a:latin typeface="Tahoma"/>
              </a:rPr>
              <a:t>URAS 14 infravörös abszorbciós CO2 mérő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458c"/>
                </a:solidFill>
                <a:latin typeface="Tahoma"/>
              </a:rPr>
              <a:t>modul 0…25 tf% tartományra (NDIR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URAS 14 infravörös abszorbciós CO mérő modul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0…50 000 ppm tartományr (NDIR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URAS 14 infravörös abszorbciós NO mérő modul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0…1 000 ppm tartomány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URAS 14 infravörös abszorbciós SO2 mérő modul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0…1 000 ppm tartományra (NDIR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3" name="Picture 5" descr="548_ao2000"/>
          <p:cNvPicPr/>
          <p:nvPr/>
        </p:nvPicPr>
        <p:blipFill>
          <a:blip r:embed="rId3"/>
          <a:stretch/>
        </p:blipFill>
        <p:spPr>
          <a:xfrm>
            <a:off x="6372360" y="3284640"/>
            <a:ext cx="230796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További érzékelő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http://www.anton-paar.hu/gazmeres.htm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oldalon további CO2 érzékelőket találunk különböző mérési módszerekk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Pl.: </a:t>
            </a:r>
            <a:r>
              <a:rPr b="1" lang="hu-HU" sz="3000" spc="-1" strike="noStrike" u="sng">
                <a:solidFill>
                  <a:srgbClr val="40458c"/>
                </a:solidFill>
                <a:uFillTx/>
                <a:latin typeface="Tahoma"/>
              </a:rPr>
              <a:t>ATX620 többcsatornás készülék</a:t>
            </a:r>
            <a:r>
              <a:rPr b="0" lang="hu-HU" sz="3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hu-HU" sz="3000" spc="-1" strike="noStrike">
                <a:solidFill>
                  <a:srgbClr val="40458c"/>
                </a:solidFill>
                <a:latin typeface="Tahoma"/>
              </a:rPr>
              <a:t>, CheckPoint</a:t>
            </a:r>
            <a:r>
              <a:rPr b="0" lang="hu-HU" sz="3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hu-HU" sz="3000" spc="-1" strike="noStrike">
                <a:solidFill>
                  <a:srgbClr val="40458c"/>
                </a:solidFill>
                <a:latin typeface="Tahoma"/>
              </a:rPr>
              <a:t>CheckMate</a:t>
            </a:r>
            <a:r>
              <a:rPr b="0" lang="hu-HU" sz="3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hu-HU" sz="3000" spc="-1" strike="noStrike">
                <a:solidFill>
                  <a:srgbClr val="40458c"/>
                </a:solidFill>
                <a:latin typeface="Tahoma"/>
              </a:rPr>
              <a:t>CMV-2</a:t>
            </a:r>
            <a:r>
              <a:rPr b="0" lang="hu-HU" sz="3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hu-HU" sz="3000" spc="-1" strike="noStrike">
                <a:solidFill>
                  <a:srgbClr val="40458c"/>
                </a:solidFill>
                <a:latin typeface="Tahoma"/>
              </a:rPr>
              <a:t>MAP Check Combi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40458c"/>
                </a:solidFill>
                <a:latin typeface="Tahoma"/>
              </a:rPr>
              <a:t>Köszönöm a figyelmet!</a:t>
            </a:r>
            <a:endParaRPr b="0" lang="en-US" sz="5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-ról általánosa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légkör természetes alkotórés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Légköri nyomáson gáz halmazállapot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tiszta levegő 0,035 tf% </a:t>
            </a:r>
            <a:r>
              <a:rPr b="0" i="1" lang="hu-HU" sz="3200" spc="-1" strike="noStrike">
                <a:solidFill>
                  <a:srgbClr val="40458c"/>
                </a:solidFill>
                <a:latin typeface="Tahoma"/>
              </a:rPr>
              <a:t>szén-dioxidot</a:t>
            </a: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 (350 ppm) tartalma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Üvegházgáz (globális felmelegedé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Mennyisége folyamatosan nő               koncentrációjának ellenőrzése fo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468360" y="6021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458c"/>
                </a:solidFill>
                <a:latin typeface="Tahoma"/>
              </a:rPr>
              <a:t>ppm: </a:t>
            </a:r>
            <a:r>
              <a:rPr b="0" i="1" lang="hu-HU" sz="2400" spc="-1" strike="noStrike">
                <a:solidFill>
                  <a:srgbClr val="40458c"/>
                </a:solidFill>
                <a:latin typeface="Tahoma"/>
              </a:rPr>
              <a:t>parts per million</a:t>
            </a:r>
            <a:r>
              <a:rPr b="0" lang="hu-HU" sz="2400" spc="-1" strike="noStrike">
                <a:solidFill>
                  <a:srgbClr val="40458c"/>
                </a:solidFill>
                <a:latin typeface="Tahoma"/>
              </a:rPr>
              <a:t>(rész a millióban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-ról általánosa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Picture 5" descr="konc"/>
          <p:cNvPicPr/>
          <p:nvPr/>
        </p:nvPicPr>
        <p:blipFill>
          <a:blip r:embed="rId1"/>
          <a:stretch/>
        </p:blipFill>
        <p:spPr>
          <a:xfrm>
            <a:off x="971640" y="1700280"/>
            <a:ext cx="6696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 mérési módszere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CO</a:t>
            </a:r>
            <a:r>
              <a:rPr b="0" lang="hu-HU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 parciális nyomásának méré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gázalkotót abszorbeáló közeg villamos vezetőképességének vizsgálatáv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Törésmutató vizsgálata alapjá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Infravörös abszorpciós elv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0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 parciális nyomásának mérése</a:t>
            </a:r>
            <a:br>
              <a:rPr sz="4000"/>
            </a:b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(Potenciometrikus gázszenzor) I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807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Gőz által sterilizálható szondával lehetsé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 parciális nyomásának méré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1" lang="hu-HU" sz="28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1" i="1" lang="hu-HU" sz="28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diffundá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349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 H</a:t>
            </a:r>
            <a:r>
              <a:rPr b="0" lang="hu-HU" sz="2800" spc="-1" strike="noStrike" baseline="30000">
                <a:solidFill>
                  <a:srgbClr val="40458c"/>
                </a:solidFill>
                <a:latin typeface="Tahoma"/>
              </a:rPr>
              <a:t>+  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ionok képződése arányos az elektrolitban oldódott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  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mennyiségével, a következő reakció alapján: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+ H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O        H</a:t>
            </a:r>
            <a:r>
              <a:rPr b="0" lang="hu-HU" sz="2800" spc="-1" strike="noStrike" baseline="30000">
                <a:solidFill>
                  <a:srgbClr val="40458c"/>
                </a:solidFill>
                <a:latin typeface="Tahoma"/>
              </a:rPr>
              <a:t>+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 +  H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hu-HU" sz="2800" spc="-1" strike="noStrike" baseline="30000">
                <a:solidFill>
                  <a:srgbClr val="40458c"/>
                </a:solidFill>
                <a:latin typeface="Tahoma"/>
              </a:rPr>
              <a:t>-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34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 kimenő jel (mV) arányos a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parciális nyomásáv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0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 parciális nyomásának mérése</a:t>
            </a:r>
            <a:br>
              <a:rPr sz="4000"/>
            </a:b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(Potenciometrikus gázszenzor) II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8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40458c"/>
                </a:solidFill>
                <a:uFillTx/>
                <a:latin typeface="Tahoma"/>
              </a:rPr>
              <a:t>Molekulaszelektív elektró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a CO</a:t>
            </a:r>
            <a:r>
              <a:rPr b="0" lang="hu-HU" sz="2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 oldódik szénsavvá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a pH alapján mérünk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5892840" y="2774880"/>
                <a:ext cx="16254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H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5261040" y="1773360"/>
            <a:ext cx="3468600" cy="452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5" name="Object 7"/>
              <p:cNvSpPr txBox="1"/>
              <p:nvPr/>
            </p:nvSpPr>
            <p:spPr>
              <a:xfrm>
                <a:off x="971640" y="4149720"/>
                <a:ext cx="37432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C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e>
                        </m:d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9"/>
              <p:cNvSpPr txBox="1"/>
              <p:nvPr/>
            </p:nvSpPr>
            <p:spPr>
              <a:xfrm>
                <a:off x="1042920" y="2924280"/>
                <a:ext cx="3529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H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36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3600" spc="-1" strike="noStrike">
                <a:solidFill>
                  <a:srgbClr val="660066"/>
                </a:solidFill>
                <a:latin typeface="Tahoma"/>
              </a:rPr>
              <a:t> parciális nyomásának mérése</a:t>
            </a:r>
            <a:br>
              <a:rPr sz="3600"/>
            </a:br>
            <a:r>
              <a:rPr b="0" lang="hu-HU" sz="3600" spc="-1" strike="noStrike">
                <a:solidFill>
                  <a:srgbClr val="660066"/>
                </a:solidFill>
                <a:latin typeface="Tahoma"/>
              </a:rPr>
              <a:t>(Potenciometrikus gázszenzor) III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458c"/>
                </a:solidFill>
                <a:latin typeface="Tahoma"/>
              </a:rPr>
              <a:t>Ilyen elven működő mérőműszer: Testo 535 (</a:t>
            </a:r>
            <a:r>
              <a:rPr b="1" lang="hu-HU" sz="2000" spc="-1" strike="noStrike">
                <a:solidFill>
                  <a:srgbClr val="40458c"/>
                </a:solidFill>
                <a:latin typeface="Tahoma"/>
              </a:rPr>
              <a:t>171.360 F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A testo 535 precíz CO2 mérő műszer a helységben lévő levegő minőségének meghatározására szolgál. A túl magas, 1000 ppm feletti CO2 koncentráció okozta rossz levegőminőség, a belső terekben fáradtsághoz, koncentrációzavarhoz és esetenként megbetegedésekhez vezethe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Precíz, ponto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Tartós megfigyelés felső- és középérték képzéss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2 csatornás infraérzélelő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4"/>
          <a:stretch/>
        </p:blipFill>
        <p:spPr>
          <a:xfrm>
            <a:off x="6443640" y="3357720"/>
            <a:ext cx="2417760" cy="324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muszaki"/>
          <p:cNvPicPr/>
          <p:nvPr/>
        </p:nvPicPr>
        <p:blipFill>
          <a:blip r:embed="rId5"/>
          <a:stretch/>
        </p:blipFill>
        <p:spPr>
          <a:xfrm>
            <a:off x="611280" y="4292640"/>
            <a:ext cx="5545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0066"/>
                </a:solidFill>
                <a:latin typeface="Tahoma"/>
              </a:rPr>
              <a:t>A gázalkotót abszorbeáló közeg villamos vezetőképességének vizsgálatáva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9261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Ionflux készülék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SzPct val="21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14,16 érzékelő cellák jelének 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különbségét, mint az elnyelt 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gázalkotóval egyenesen arányos 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jelet viszik a regisztráló műszerre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SzPct val="21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Szükséges gázminta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5-20dm</a:t>
            </a:r>
            <a:r>
              <a:rPr b="0" lang="hu-HU" sz="17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/h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Picture 4" descr="ionflux"/>
          <p:cNvPicPr/>
          <p:nvPr/>
        </p:nvPicPr>
        <p:blipFill>
          <a:blip r:embed="rId3"/>
          <a:stretch/>
        </p:blipFill>
        <p:spPr>
          <a:xfrm>
            <a:off x="4078440" y="1413000"/>
            <a:ext cx="50655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Törésmutató vizsgálata alapján I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fény két közeg határán megtöri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Fénytörés mértéke mindkét közegre jellemző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jelenséget az analízishez közvetlenül felhasználó műszerek a </a:t>
            </a:r>
            <a:r>
              <a:rPr b="0" i="1" lang="hu-HU" sz="3200" spc="-1" strike="noStrike">
                <a:solidFill>
                  <a:srgbClr val="40458c"/>
                </a:solidFill>
                <a:latin typeface="Tahoma"/>
              </a:rPr>
              <a:t>refraktométere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07:13:08Z</dcterms:created>
  <dc:creator>Miklós</dc:creator>
  <dc:description/>
  <dc:language>en-US</dc:language>
  <cp:lastModifiedBy>Gáspár Miklós</cp:lastModifiedBy>
  <dcterms:modified xsi:type="dcterms:W3CDTF">2009-05-24T06:42:51Z</dcterms:modified>
  <cp:revision>52</cp:revision>
  <dc:subject/>
  <dc:title>CO2 érzékelők</dc:title>
</cp:coreProperties>
</file>